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25B-75D0-46C1-99E0-023EC01E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9F7-B1E7-46D5-8765-5226274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DA5-9882-491B-B13D-305F1A79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6B8-5C53-4033-AB5B-A416338F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CB7-9BE5-42F0-8ADE-9E7ECB99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7DA-EBA6-406D-99D9-7CD067B0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BB2-C0CA-49FB-96C1-0A1AFD6D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C67-409E-4924-A10A-C4203A5F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D6A-5C63-4EEE-A94C-7FD5741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B4E-40A1-44CE-9A9B-368ADD5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6EB-7492-4737-9B2F-081C1A9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069-CA75-4BF0-8DA5-1E564A1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BA1D-C65A-412B-9D7B-975291D8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Lindsay Na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4840" y="8380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Para el desayuno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10996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3400" y="4800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09680" y="2590920"/>
            <a:ext cx="2362320" cy="186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42240" y="46483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724280" y="2590920"/>
            <a:ext cx="196236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1720" y="4572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pan to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781680" y="2590920"/>
            <a:ext cx="23623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49240" y="4684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gof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962520" y="4950000"/>
            <a:ext cx="1600200" cy="152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37880" y="64911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4760" y="496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a el almuerzo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362320" cy="156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20" y="38862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Un sandwich de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93440" y="39625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l sopa de 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53000" y="3962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Una rebanada de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15200" y="2057400"/>
            <a:ext cx="1676520" cy="213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41911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657600" y="4343400"/>
            <a:ext cx="1436760" cy="196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1276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8840" y="4572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ara la cena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20" y="380988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Una hamburgu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2362320" cy="187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69040" y="3886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l bis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057400"/>
            <a:ext cx="2133360" cy="1447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23680" y="36576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l Maccarones con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213372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166160" y="36576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l perro ca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side salad"/>
          <p:cNvPicPr/>
          <p:nvPr/>
        </p:nvPicPr>
        <p:blipFill>
          <a:blip r:embed="rId6"/>
          <a:stretch/>
        </p:blipFill>
        <p:spPr>
          <a:xfrm>
            <a:off x="1523880" y="4703760"/>
            <a:ext cx="2210040" cy="1182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2760" y="59436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029200" y="4495680"/>
            <a:ext cx="179064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45560" y="60562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800" y="228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 el postre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396252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l helado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0" y="2133720"/>
            <a:ext cx="2209680" cy="14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13640" y="37339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Un pastel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724280" y="2209680"/>
            <a:ext cx="1905120" cy="140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04200" y="37339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Un pastel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815160" y="2133720"/>
            <a:ext cx="2328840" cy="169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62360" y="38862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Un galleta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4:14Z</dcterms:created>
  <dc:creator>naglelin</dc:creator>
  <dc:description/>
  <dc:language>en-US</dc:language>
  <cp:lastModifiedBy>naglelin</cp:lastModifiedBy>
  <dcterms:modified xsi:type="dcterms:W3CDTF">2012-04-04T15:01:54Z</dcterms:modified>
  <cp:revision>10</cp:revision>
  <dc:subject/>
  <dc:title>Las Comidas</dc:title>
</cp:coreProperties>
</file>